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D3D22-D935-4A4C-92BF-73B7EDF70B5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  <a:ea typeface="ms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333F3-C55C-4603-9E4A-9BE259688A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6F323-CFB7-40F9-850C-BF06930DFC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E26A5-5404-4344-AD16-6166104D44A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E268A-FA7F-4026-AB02-FF0B2EED3B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BF362-AF70-4E8C-A2F5-B0D764207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68D-7F94-486E-AACE-F49A47C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625-EDDA-4B09-8ED6-31CAD47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37B-D5B4-4930-9D75-A8ECEB14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E11-82F0-479A-AD8C-4A4E2A9F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E2A-3DF0-41BC-88D9-3B3BDD7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607-E2F1-4388-8E97-FADC7B7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93C-57E8-41D7-9658-1289B3E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B97-BB6A-4E3D-A3D4-F93875E2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A77-7F2E-42B0-BCD6-01ED360B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5AC-B483-4752-8BE7-461F989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EE8-FE21-4D99-874E-C2689F1B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84A-5BEB-4591-92B9-5A58F1DD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951C2-A6D1-4A21-86C1-D7BEA834B5D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addictedtor.free.fr/graphiques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books.google.ca/books?id=wgY1FLKogHwC&amp;printsec=frontcover&amp;dq=nicholas+Horton+R+graphics&amp;source=bl&amp;ots=fJaRuTXjtK&amp;sig=jh3E3iddbII5QyJIZoWFt_eea_w&amp;hl=en&amp;ei=GBqVTfOzOsa2tgfLjqGUDA&amp;sa=X&amp;oi=book_result&amp;ct=result&amp;resnum=1&amp;ved=0CBYQ6AEwAA#v=onepage&amp;q&amp;f=fals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360" y="104400"/>
            <a:ext cx="9869760" cy="7335720"/>
          </a:xfrm>
          <a:prstGeom prst="rect">
            <a:avLst/>
          </a:prstGeom>
          <a:blipFill rotWithShape="0">
            <a:blip r:embed="rId1">
              <a:alphaModFix amt="25000"/>
            </a:blip>
            <a:stretch/>
          </a:blipFill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nidade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riação e Edição de 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)     : (     &gt;:p    :^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46320" y="1509840"/>
            <a:ext cx="572940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4080" y="3830760"/>
            <a:ext cx="80740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presentação simplificada de r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lacionada a até 18 dimensões de d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discriminar, agrupar e reconhecer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3320" y="626580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5400" y="3830760"/>
            <a:ext cx="88138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programados a reconhecer exp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inferimos (acreditamos) personalidade/cará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conhecemos o estado de ânim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3320" y="626580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5400" y="3830760"/>
            <a:ext cx="88138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variáveis representam formas e tamanho dos elementos que compõem a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mplexidade e interação das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hierarquia e re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677052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38160" y="1467000"/>
            <a:ext cx="8665560" cy="5684760"/>
            <a:chOff x="938160" y="1467000"/>
            <a:chExt cx="8665560" cy="5684760"/>
          </a:xfrm>
        </p:grpSpPr>
        <p:grpSp>
          <p:nvGrpSpPr>
            <p:cNvPr id="85" name=""/>
            <p:cNvGrpSpPr/>
            <p:nvPr/>
          </p:nvGrpSpPr>
          <p:grpSpPr>
            <a:xfrm>
              <a:off x="5026680" y="1467000"/>
              <a:ext cx="4577040" cy="5684760"/>
              <a:chOff x="5026680" y="1467000"/>
              <a:chExt cx="4577040" cy="568476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49000" y="1467000"/>
                <a:ext cx="4554720" cy="56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20880000">
                <a:off x="5106960" y="3906000"/>
                <a:ext cx="134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Bradley Hand ITC"/>
                  </a:rPr>
                  <a:t>Como fazer um gráf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938160" y="1494000"/>
              <a:ext cx="354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400" spc="-1" strike="noStrike">
                  <a:solidFill>
                    <a:srgbClr val="800000"/>
                  </a:solidFill>
                  <a:latin typeface="Arial"/>
                </a:rPr>
                <a:t>Dez mandamentos do Professor Glauco para fazer um bom gráf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39880" y="3394080"/>
            <a:ext cx="1970280" cy="30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898360" y="3511440"/>
            <a:ext cx="600120" cy="312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79840" y="3225960"/>
            <a:ext cx="1009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lau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62040" y="1474920"/>
            <a:ext cx="875988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fazer gráficos tridimensionais ou coloridos a menos que seja estritamente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colocar bordas externas nos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usar eix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mover as linhas de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usar preenchiment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colocar título no 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r vírgulas e não ponto nas casas decimais (texto em portuguê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ocar as unidades de medida na legenda dos ei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r legendas que tornem o gráfico auto-expli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tar as figuras na ordem em que elas aparecem no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92160" y="1311120"/>
            <a:ext cx="8464680" cy="5869080"/>
            <a:chOff x="992160" y="1311120"/>
            <a:chExt cx="8464680" cy="58690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92160" y="1311120"/>
              <a:ext cx="8464680" cy="58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794040" y="1731960"/>
              <a:ext cx="289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ipos de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81320" y="1903320"/>
            <a:ext cx="758880" cy="4264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40360" y="3287880"/>
            <a:ext cx="760320" cy="287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70680" y="4514760"/>
            <a:ext cx="760320" cy="1654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02000" y="1611360"/>
            <a:ext cx="1440" cy="45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20640" y="61754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20640" y="56070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20640" y="503712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20640" y="446580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20640" y="389556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20640" y="33242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20640" y="275436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20640" y="218448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20640" y="16128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0240" y="610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0240" y="5533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496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4394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0240" y="3824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00240" y="325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00240" y="2682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0240" y="2111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0240" y="1541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3120" y="2476800"/>
            <a:ext cx="30528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ura das árvores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4520" y="6175440"/>
            <a:ext cx="570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20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972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2160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7760" y="628668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8200" y="628668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64920" y="628668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ix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4320" y="682452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73560" y="1638360"/>
            <a:ext cx="4155840" cy="2854440"/>
            <a:chOff x="3373560" y="1638360"/>
            <a:chExt cx="4155840" cy="2854440"/>
          </a:xfrm>
        </p:grpSpPr>
        <p:grpSp>
          <p:nvGrpSpPr>
            <p:cNvPr id="136" name=""/>
            <p:cNvGrpSpPr/>
            <p:nvPr/>
          </p:nvGrpSpPr>
          <p:grpSpPr>
            <a:xfrm>
              <a:off x="3373560" y="1638360"/>
              <a:ext cx="347400" cy="250920"/>
              <a:chOff x="3373560" y="1638360"/>
              <a:chExt cx="347400" cy="250920"/>
            </a:xfrm>
          </p:grpSpPr>
          <p:sp>
            <p:nvSpPr>
              <p:cNvPr id="137" name=""/>
              <p:cNvSpPr/>
              <p:nvPr/>
            </p:nvSpPr>
            <p:spPr>
              <a:xfrm>
                <a:off x="3541680" y="1652760"/>
                <a:ext cx="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73560" y="16383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264280" y="2884320"/>
              <a:ext cx="347400" cy="389160"/>
              <a:chOff x="5264280" y="2884320"/>
              <a:chExt cx="347400" cy="389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432400" y="2905200"/>
                <a:ext cx="0" cy="36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64280" y="288432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182000" y="4354560"/>
              <a:ext cx="347400" cy="138240"/>
              <a:chOff x="7182000" y="4354560"/>
              <a:chExt cx="347400" cy="138240"/>
            </a:xfrm>
          </p:grpSpPr>
          <p:sp>
            <p:nvSpPr>
              <p:cNvPr id="143" name=""/>
              <p:cNvSpPr/>
              <p:nvPr/>
            </p:nvSpPr>
            <p:spPr>
              <a:xfrm>
                <a:off x="7350120" y="4362480"/>
                <a:ext cx="0" cy="13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82000" y="43545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3317760" y="1217520"/>
            <a:ext cx="4254480" cy="3084480"/>
            <a:chOff x="3317760" y="1217520"/>
            <a:chExt cx="4254480" cy="3084480"/>
          </a:xfrm>
        </p:grpSpPr>
        <p:sp>
          <p:nvSpPr>
            <p:cNvPr id="146" name=""/>
            <p:cNvSpPr/>
            <p:nvPr/>
          </p:nvSpPr>
          <p:spPr>
            <a:xfrm>
              <a:off x="3317760" y="1217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7040" y="24638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4060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502000" y="1611360"/>
            <a:ext cx="1440" cy="45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20640" y="61754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20640" y="56070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20640" y="503712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20640" y="446580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20640" y="389556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20640" y="33242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20640" y="275436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20640" y="218448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20640" y="16128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0240" y="610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0240" y="5533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00240" y="496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0240" y="4394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00240" y="3824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0240" y="325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0240" y="2682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00240" y="2111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00240" y="1541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63120" y="2476800"/>
            <a:ext cx="30528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ura das árvores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4520" y="6175440"/>
            <a:ext cx="570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20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64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972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2160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36360" y="628668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38040" y="628668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96440" y="628668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ix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4320" y="682452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53320" y="4838760"/>
            <a:ext cx="690120" cy="1063440"/>
            <a:chOff x="6853320" y="4838760"/>
            <a:chExt cx="690120" cy="1063440"/>
          </a:xfrm>
        </p:grpSpPr>
        <p:sp>
          <p:nvSpPr>
            <p:cNvPr id="185" name=""/>
            <p:cNvSpPr/>
            <p:nvPr/>
          </p:nvSpPr>
          <p:spPr>
            <a:xfrm>
              <a:off x="6853320" y="5061600"/>
              <a:ext cx="690120" cy="52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9440" y="5327640"/>
              <a:ext cx="6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201800" y="4838760"/>
              <a:ext cx="0" cy="22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37720" y="484020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191360" y="5585400"/>
              <a:ext cx="9720" cy="3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7720" y="59022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060880" y="2711520"/>
            <a:ext cx="676080" cy="1987560"/>
            <a:chOff x="5060880" y="2711520"/>
            <a:chExt cx="676080" cy="1987560"/>
          </a:xfrm>
        </p:grpSpPr>
        <p:sp>
          <p:nvSpPr>
            <p:cNvPr id="192" name=""/>
            <p:cNvSpPr/>
            <p:nvPr/>
          </p:nvSpPr>
          <p:spPr>
            <a:xfrm flipH="1" flipV="1">
              <a:off x="5392080" y="2711520"/>
              <a:ext cx="4320" cy="75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8080" y="2712960"/>
              <a:ext cx="11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60880" y="3461760"/>
              <a:ext cx="673200" cy="869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1680" y="389016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760" y="4335480"/>
              <a:ext cx="1080" cy="35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8080" y="469908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81320" y="1870200"/>
            <a:ext cx="690120" cy="1301760"/>
            <a:chOff x="3181320" y="1870200"/>
            <a:chExt cx="690120" cy="1301760"/>
          </a:xfrm>
        </p:grpSpPr>
        <p:sp>
          <p:nvSpPr>
            <p:cNvPr id="199" name=""/>
            <p:cNvSpPr/>
            <p:nvPr/>
          </p:nvSpPr>
          <p:spPr>
            <a:xfrm>
              <a:off x="3181320" y="2142720"/>
              <a:ext cx="690120" cy="64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7800" y="2468520"/>
              <a:ext cx="68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529800" y="1870200"/>
              <a:ext cx="0" cy="27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67520" y="187164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519360" y="2783880"/>
              <a:ext cx="9720" cy="38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67520" y="317196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303720" y="1441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94440" y="22813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72480" y="44244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41520" y="366840"/>
            <a:ext cx="87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adrões do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29198" r="0" b="29198"/>
          <a:stretch/>
        </p:blipFill>
        <p:spPr>
          <a:xfrm>
            <a:off x="981000" y="4902120"/>
            <a:ext cx="3960720" cy="2227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18280" y="2354400"/>
            <a:ext cx="4762440" cy="4349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7800" y="1317600"/>
            <a:ext cx="45435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04680"/>
            <a:ext cx="9070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letir sobre a representação dos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cepção da potencialidade: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ógica dos dispositivos e do pacote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is funções; parâmetros; alto nível; baixo nível;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os recursos gráficos: help, buscas (R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s mais avançados (pacote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79480" y="1658880"/>
            <a:ext cx="6667560" cy="469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5920" y="6835680"/>
            <a:ext cx="9982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Fine Paul et al. 2004. Herbivores promote habitat specialization by trees in Amazonian forests. </a:t>
            </a: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:305(5684):663-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20800" y="2246400"/>
            <a:ext cx="7023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presenta os dados clar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ssalta o que é interes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c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nc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esteticamente agradáv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O EDITOR GOS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ógica dos 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805040"/>
            <a:ext cx="97408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 Gráf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la (moni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 (pdf, jpeg, ti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s globais do dispositivos: par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de nível alto: plot( ); hist( ); coplot ( ); image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de nível baixo: points( ); lines( ), rect( 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interativas: locator ( ); identify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20320"/>
            <a:ext cx="9070920" cy="67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 te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11( ); x11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rtz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indows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s de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tscript ( ); pdf ( ) ; jpeg ( ); tiff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ipulando os disposi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cur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list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off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Vantagem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zir gráficos no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ormato desej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/ou com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adequa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à pub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Vamos ao 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517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râmetros só podem ser modificados no par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mfrow,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dem ser modificado nas funções de nível alto ou mesmo 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cex, col, p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e o help das funções e do par( ) para lista completa de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41520" y="314280"/>
            <a:ext cx="87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ção de alto ní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7120" y="1028880"/>
            <a:ext cx="9366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ot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Função genérica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ende da classe do objeto u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" y="2289240"/>
            <a:ext cx="96886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x, y) ou plot(xy):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x e y são vetores numéricos ou matriz com 2 col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x): série temporal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x for observações ao longo 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f, y): box-plot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f for fator e y vetor num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df): matriz de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df=data.frame: dispersão de todas as combin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~ formula): matriz de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todas as combinações das variávies da fó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y ~ formula): matriz de dispersão</a:t>
            </a:r>
            <a:br>
              <a:rPr sz="2400"/>
            </a:br>
            <a:r>
              <a:rPr b="1" lang="pt-B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y versus todas as váriáveis da fó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41520" y="31428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unção de alto ní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040" y="1157400"/>
            <a:ext cx="9688680" cy="63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(x) 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histograma de frequência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xplot(x); boxplot(y~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caixa ou qu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plot(x, y): 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multiplas linhas (covariâ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our(x,y,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gráfico de superfície com curvas de ní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e(x,y,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representação de uma matriz de dados na escala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sp(x,y, 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~ 3D contou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clust(d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multivariado: gráfico de agrupamento aglom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Vamos ao 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53680" y="1233360"/>
            <a:ext cx="9070920" cy="5770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 e ou atua no dispositivo gráfico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arâ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frow=c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fcol=c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=c(4,2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x=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=”r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ily= “seri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ch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w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-22320"/>
            <a:ext cx="8096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1000" y="1325520"/>
            <a:ext cx="4589280" cy="42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37000" y="6703920"/>
            <a:ext cx="585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oInformática: “Biological data visualiz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40160" y="1082520"/>
            <a:ext cx="461808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517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râmetros só podem ser modificados no par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mfrow,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dem ser modificado nas funções de nível alto ou mesmo 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cex, col, p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e o help das funções e do par( ) para lista completa de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62360" y="3070080"/>
            <a:ext cx="4448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ddictedtor.free.fr/graphiqu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68760" y="1979640"/>
            <a:ext cx="602928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 gráfico de metanáli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6480" y="1341360"/>
            <a:ext cx="637236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-166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24040" y="825480"/>
            <a:ext cx="6724800" cy="67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609480"/>
            <a:ext cx="2643120" cy="3427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83160" y="2487600"/>
            <a:ext cx="2411280" cy="3465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157880" y="853920"/>
            <a:ext cx="23814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IM DA UNIDAD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1984320"/>
            <a:ext cx="94345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ara a tar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tão Tutoriais e exercícios Unidade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té sex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 5 de Exercí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939080" y="627120"/>
            <a:ext cx="171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90709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esquemática de alguma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hart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lustração que representa os dados através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lot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Técnica gráfica para representar um conjunto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que revela e ressalta padrões de interesse mantendo a estrutura original dos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2193840"/>
            <a:ext cx="936468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Princípios básicos da apresentação grá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saltar os padrões de interes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a estrutura dos dados, de forma que o leitor possa reconstruir os dados a partir da figu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igura deve ter uma razão </a:t>
            </a: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dado:tin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l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figuras </a:t>
            </a: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istorc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xage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pa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s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celência 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6696000"/>
            <a:ext cx="9923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lison, A.M. 2001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loratory Data Analysis and Graphic Displa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Cap.3: 37-6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:Scheiner, S.M &amp; Gurevitch, J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sign and Analysis of Ecological  Experiment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xford Univesity Press. Oxf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20800" y="2616120"/>
            <a:ext cx="7023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o editor gos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20800" y="2246400"/>
            <a:ext cx="7023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presenta os dados clar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ssalta o que é interes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c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nc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esteticamente agradáv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0400" y="1370160"/>
            <a:ext cx="5821200" cy="593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1:39:42Z</dcterms:created>
  <dc:creator/>
  <dc:description/>
  <dc:language>en-US</dc:language>
  <cp:lastModifiedBy>alexandre </cp:lastModifiedBy>
  <dcterms:modified xsi:type="dcterms:W3CDTF">2011-04-01T00:12:25Z</dcterms:modified>
  <cp:revision>145</cp:revision>
  <dc:subject/>
  <dc:title/>
</cp:coreProperties>
</file>